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10FA1-174A-4080-9FAD-EF4C18092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D7608-6846-4531-9387-18738660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4EA09-6385-4B7F-A192-2B515DB0F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FCE27-A5DE-4C03-8553-AC284192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9B70E-B7C2-4AFE-8317-B696746F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7C398-8E7D-4792-8224-E8EA87E5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49A5BE-0ABF-49DC-9876-EE4721E2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1BC72-01F0-43B7-A003-3C462A99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ED513D-A6FD-4186-B4B5-497B8BBB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C25224-3AFE-4F96-BB7B-3A20AC3C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7CA75-271F-49C2-BED7-3E721B64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1BBE2-4C72-4668-9030-0E7F454F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5C09F-685A-4D8A-B87C-1011FEE7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800B9-C0E4-40FC-A3FC-83B679B2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9E432E-924E-42B9-88CE-9397B5A88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B289F-23B1-4755-966B-D2DBFF59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13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27464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228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213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27464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70809-4A81-4572-9505-C7FCFF09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605EC-9C65-4371-82B6-8B309895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CCAE6-F717-46A5-82F2-5F955FDFD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BFF6F-2DB3-48B1-A701-A5BB5B5D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280" y="533520"/>
            <a:ext cx="6096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CAC6C-BED3-40C4-AD8C-8DBA7DF74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ACA47-A6B1-4D84-9CB2-24E25D36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27600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1DABB-45FE-481A-82B2-0A9CD640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27600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4130640"/>
            <a:ext cx="609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F324A-73B4-43C0-BF64-FDA341EF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8954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07A7-4637-4231-A0D7-E74F357E9AA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dt" idx="3"/>
          </p:nvPr>
        </p:nvSpPr>
        <p:spPr>
          <a:xfrm>
            <a:off x="6476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AD358-0B05-49FF-B621-57478F789F90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6399360" cy="157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5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308F-74D6-45C5-B40D-0E32EB1D11D2}" type="slidenum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765000"/>
            <a:ext cx="5672880" cy="1205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97"/>
                </a:moveTo>
                <a:arcTo wR="10800" hR="10800" stAng="-10799024" swAng="5470164"/>
                <a:lnTo>
                  <a:pt x="10800" y="10800"/>
                </a:lnTo>
                <a:close/>
              </a:path>
              <a:path fill="none" w="21600" h="21600">
                <a:moveTo>
                  <a:pt x="0" y="10797"/>
                </a:moveTo>
                <a:arcTo wR="10800" hR="10800" stAng="-10799024" swAng="5470164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1557-D6BD-48F3-AF82-968AB2CBCC9A}" type="datetime">
              <a:rPr b="0" lang="en-US" sz="1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1143000"/>
            <a:ext cx="639936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cc"/>
                </a:solidFill>
                <a:latin typeface="Times New Roman"/>
                <a:cs typeface="PT Bold Heading"/>
              </a:rPr>
              <a:t>الإجراءات المستخدمة في إدارة شئون الموظفين</a:t>
            </a:r>
            <a:br>
              <a:rPr sz="5400"/>
            </a:b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D30B2-EEA9-42D2-B570-C45EB7D873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fld id="{195B119F-EA6D-4631-8580-892924336D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9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بلاغ عن إصابة عمل أو وفا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6095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عبئة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المعد لذل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كان وقوع الإصابة بدق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موقع سكن ا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المسمى الوظيفي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حديد تاريخ الإصابة والإبلاغ عنها لمؤسسة التأمين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نقل المصاب إلى جهة العلاج المخصصة مع أصل النموذج (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عطاء وصف كامل ل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جراء تحقيق إداري خاص بالشركة عن الإصاب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فاق رخصة القيادة في حال الحوادث المروري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سم توضيحي (كروكي) عن موقع الحادث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شمسية للمصاب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صورة عن تقرير شرطة المرو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الملف إلى التأمينات مع الاحتفاظ بنسخة في قسم شئون الموظفي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بليغ السفارة في حال الوفاة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إرسال عنوان ورثة المتوفى إلى مكتب التأمينات لإرسال التعويضات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9FC37-880A-4348-91E2-951B91EC751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B323B6-D5B6-4A74-A9F6-A56DA1CBA0A0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حقيق في المخالفات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بلاغ خطياً عن المخالفة فور وقوع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تحقيق مع الموظ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حقيق وإعداد تقرير بذل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رفع نتيجة التحقيق والتوصيات للمدير الع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عتماد المدير العام للعقوبة أو رفضها أو تعدي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بلاغ الموظف بمضمون العقوبة وله حق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أسابيع من تاريخ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يجب على الإدارة الرد على الاعتراض خلال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يوماً من استلام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جيل العقوبة في ملف الموظف وتنفيذها خاصة العقوبات المال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تدرج العقوبات حسب شدتها وأهميتها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نبيه – الإنذار – التوبيخ – الفصل- الطر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5219D-BE1D-41BA-85D1-EE0B2FA73A3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5CB8834-4D78-4AF1-BA92-B13441ABB9B1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 الإجراءات الخاصة       بالتأمينات الاجتماعي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60962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جيل الموظف في التأمينات الاجتماعية فور توقيع العق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يجاد سجلات خاصة بالتأمينات الاجتماعية لكل العامل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حتساب قيمة اشتراك التأمينات الاجتماعية عن كل موظف وحسمها من راتبه عن طريق الإدارة المال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تم إبلاغ التأمينات الاجتماعية بأية تعديلات على بيانات الموظف سواء تعديل أو ترك للخدمة أو خلاف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36600-E111-45D7-9038-54722AEC5F7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763A2A5-4E99-4F7E-931A-1B538F557292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الإجراءات الخاصة بقياس الأداء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60958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كون نماذج تقييم الأداء لدى إدارة الموارد البشر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ديد موعد لتقييم الأداء بالاتفاق مع الإدارة العامة والإدارات الأخرى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نماذج إلى الإدارات المختلف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رف الإدارة على عملية التقييم وتتأكد من سلامة الإجراءات المتبع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ليل نتائج التقييم وإبلاغ كل إدارة بالنتائج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وضع المقترحات لكل موظف للتدريب أو الترقية أو العلاوات أو غير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نتائج الاقتراحات أولاً بأو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تح سجل لأداء كل موظف لمراقبة تطور الأد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FB267-152E-4FAD-B4E0-ED2D5AE1EC0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D665B86-C071-426B-A011-627F3F705FBD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5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صفية الاستحقاقات عند انتهاء العقد 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صر العمال الذين ستنتهي عقودهم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متابعة استصدار قرارات انتهاء العق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عمال المعنيين بانتهاء عقودهم للقيام بإجراءات إخلاء الط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حساب استحقاقات العمال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إدارة المالية بالاستحقاقات لإنهاء إجراءات الصرف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سفر من تذاكر وحجوز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نهاء إجراءات الحصول على تأشيرة الخروج النهائي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استلام وتسليم الجواز والإقامة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ثبات بيانات إنهاء العقد في السجلات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Arial"/>
              </a:rPr>
              <a:t>إبلاغ الجهات الخارجية بانتهاء العقد (التأمينات؛ المستوصفات؛...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just" rtl="1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D9D5B-E33B-4503-B927-C254C1F078F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FA0E76B-0640-406E-B7F4-4732C9FB2948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إعداد مسير الرواتب والأجور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عداد المسير قبل أسبوع على الأقل من نهاية الشهر؛ من واقع قوائم العاملين وأرقامهم الوظي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دخال العمليات التي تمت في الشهر ولها أثر مالي مثل الحسومات بأنواعها؛ العلاوات والمكافآت؛ وتعويض العمل الإضاف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سال المسير للإدارة المالية بعد توقيعه أصو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وصرف المستحقات من قبل الإدارة المالية قبل نهاية ال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رد على أي استفسارات من جانب العاملين وإرسال صورة من تفصيلات الراتب والإضافات والحسومات لكل منهم إذا رغب في ذل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B6EEA-0CF0-4D02-93F1-BAB866351CA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35EE218-C74D-4B80-BD17-5F1D8F32972B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 – إجراءات التوظيف       الداخلي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6095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ت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ديد  شروط كل وظيفه من خلال وصفها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شكيل لجنة للمقاب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جراء المقابلات ورفع التوصي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مدير العام قرار 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ستكمال الإجراءات الإدارية المتعلقة بالتوظي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2C46D-BB28-4749-8263-443132BEBA9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A1300CD-E486-404F-95E1-2383F4EA361F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توظيف الخارجي (الاستقدام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6095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صر الوظائف المطلوب إشغال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إعلا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ستقبال الطلب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فرز الطلبات لمعرفة الملائم من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حديد مكان وزمان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شكيل لجنة للسفر وإجراء المقابل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تابعة إنهاء إجراءات استقدام من يقع عليهم الإختيا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ستكمال الإجراءات الإدارية المتعلقة بالتوظي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عيين (فترة التجربة) لمدة ثلاثة أشه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دريب مكثف خلال فترة التجرب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متابعة والتقييم ورفع تقرير في نهاية الفتر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إصدار قرار التثبي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 rtl="1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حفل تعارف للترحيب بالموظفين الجد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4C98C-7609-4055-B408-90F3248C843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1029AC6-3CDB-4379-A372-7083CB131D3D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3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إجازات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تقديم طلب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رفع الطلب للإدارة العلي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مل إخلاء طرف لإنهاء إجراءات استحقاقاته المال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صدار قرار الإجازة وتبليغ الموظف ومديره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نهاء إجراءات السفر وتسليم واستلام الإقامة وجواز السفر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عداد مذكرة المباشرة بعد العودة وتسليم الإقامة واستلام الجواز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E2F8C-5AF1-4FD2-B3EC-337AA3D3A36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A43560C-0A8E-4B7B-8A9D-379BD069E0F9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4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الانقطاع عن العمل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أ – إجراءات الانقطاع لغير ا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انقطاع أكثر من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48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ساعة ؛ التأكد من وجوده من عدمه بالسكن؛ وفي عدم وجوده تبلغ الإدارة لاتخاذ الإجراءات المناسبة في مثل هذه الحال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تجاوز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يتم اتخاذ إجراءات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ب- إجراءات الانقطاع للسعوديين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في حال الانقطاع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تبلغ الإدارة بذل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 rtl="1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تم مخاطبة الموظف وإمهاله (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) أيام لمباشرة العمل وإلا يتم إنهاء خدمات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17100-3A9F-4689-853E-3AA2F235179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D0DB58-480F-4CFB-BEA4-C1F63575F062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5</a:t>
            </a:r>
            <a:r>
              <a:rPr b="1" lang="ar-SA" sz="4500" spc="-1" strike="noStrike">
                <a:solidFill>
                  <a:srgbClr val="ffffcc"/>
                </a:solidFill>
                <a:latin typeface="Times New Roman"/>
              </a:rPr>
              <a:t>- إجراءات الغياب عن العمل :</a:t>
            </a:r>
            <a:endParaRPr b="1" lang="en-US" sz="45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رفع أيام الغياب أول بأو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خصم أجر يوم العمل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بلاغ الموظف بالخص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عند تكرار الغياب يتم تطبيق اللائحة المعمول بها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ADAEF-B8A0-4E90-B4B6-B821EF46C33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589FBF3-F9C3-4D7E-B984-FE43E5BF1910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6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ي القيد (الاستقالة) :</a:t>
            </a:r>
            <a:br>
              <a:rPr sz="4800"/>
            </a:b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60958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قديم طلب الاستقالة قبل فترة كافي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وافقة الرئيس المباشر أو عدمها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ما لديه من عهد و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عمل إخلاء ط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صدار قرار طي القيد أو الاستقال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بدء بإجراءات الخروج النهائ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فية الاستحقاقات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نهاء إجراءات السفر بعد تسليمه الجواز مع نهاية آخر يوم عمل له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2F0E0-EE71-465F-9D82-C1C24F18F9B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0973BE5-EDCF-4E29-8B8A-12DB9225F138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تجديد الإقامة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6095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 الإقامة مع (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) صورة شخصية قبل فترة كافي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احتفاظ بصورة من الإقامة لدى الموظف وإدارته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لقيام بإجراءات تجديدي الإقا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إرسالها إرسالها للموظف عن طريق إدارته بعد توقيعه بالاستلا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E3DB3-34A0-4570-9F1C-7674A6761DA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5008346-F161-4A0C-B9A4-0331B33B2E7F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533520"/>
            <a:ext cx="609624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8</a:t>
            </a:r>
            <a:r>
              <a:rPr b="1" lang="ar-SA" sz="4800" spc="-1" strike="noStrike">
                <a:solidFill>
                  <a:srgbClr val="ffffcc"/>
                </a:solidFill>
                <a:latin typeface="Times New Roman"/>
              </a:rPr>
              <a:t>- إجراءات طلب سلفه :</a:t>
            </a:r>
            <a:endParaRPr b="1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6095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عبئة النموذج المعد لذلك مع توضيح أسباب طلب السلفة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رفاق نموذج كفالة موقع من اثنين م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بعد التوقيع من المدير المباشر تحول لإدارة شئون الموظفي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يحول إلى المدير العام في حال الحاجة للاستثنا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حويل الطلب لقسم الرواتب والأجور للتأكد من قدرة الموظف على التسدي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تخاذ القرار بالموافقة أو التعديل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 algn="just" rtl="1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متابعة إجراءات الصر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 algn="just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B0C4B-5697-4FCB-91E3-376685D4648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1E6B03C-FFF2-491C-AF78-BDF3C50EDDF5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aining center</cp:lastModifiedBy>
  <dcterms:modified xsi:type="dcterms:W3CDTF">2005-02-19T15:51:43Z</dcterms:modified>
  <cp:revision>6</cp:revision>
  <dc:subject/>
  <dc:title>عرض تقديمي من PowerPoint</dc:title>
</cp:coreProperties>
</file>